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47D1-96A0-48FB-85B3-294ECDE56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E4FA-1AFD-4875-811F-AFF80C575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8F81-E492-4221-83BE-C926F2D7D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AC08-2850-4A63-B18E-CB4AE78FD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0001-85D1-4E4F-AFDB-A3B8D0F4F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F0C7-F30F-4057-A296-05EE66661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A256-A6B8-4E4B-B76C-3BBACD0E6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C228-8A9F-4435-89D9-1FC9C17F8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442A-D43D-4252-9E58-345C604C6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BE39-23F1-42B4-860E-4AE124E4D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048A-6177-4254-8833-9190F1190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72CA-905D-44A3-99CF-721B57C72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1-</a:t>
            </a:r>
            <a:fld id="{A24BB9DB-4C51-4D03-93D4-923C836488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4167360"/>
            <a:ext cx="756936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808056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ción 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learned how to form past participles. You will now learn how to form the present perfect indicati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etérito perfecto de indic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 compound tense that uses the past participle. The present perfect is used to talk about what some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 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Spanish, it is formed with the present tense of the auxiliary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past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82BC-20EB-4A01-B684-B28421A70B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243320"/>
            <a:ext cx="8229600" cy="14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56AF-C75D-4D27-BB95-017C83977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articiple does not change in form when it is part of the present perfect tens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changes in form when it is used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jec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48768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8D4C-1F0B-4602-8922-63C3F5A691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the present perfect indicative generally is used just as in English: to talk about what someone has done or what has occurred. It usually refers to the recent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495600"/>
            <a:ext cx="8229600" cy="15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106D-76D1-4353-A354-5B352CD73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glish, the auxiliary verb and the past participle are often separated. In Spanish, however, these two elements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past participle—cannot be separated by any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22960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935520"/>
            <a:ext cx="8229600" cy="250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0A83-DBCB-4C8E-8785-C51AAC2BA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ny object or reflexive pronouns are placed immediately b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17640"/>
            <a:ext cx="8229600" cy="15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D371-BFD2-477C-A046-2A54495D2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ha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a main verb or an auxiliary verb in English. As a main verb, it 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le as an auxiliary, it 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3546360"/>
            <a:ext cx="8229600" cy="83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EF68-D219-483A-9AFE-CF11C4BE5D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rm the present perfec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 the third-person singula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(ha) + hab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152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F40E-14E3-477E-AE74-BC22A818A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23800" y="2138400"/>
          <a:ext cx="8089920" cy="3809880"/>
        </p:xfrm>
        <a:graphic>
          <a:graphicData uri="http://schemas.openxmlformats.org/drawingml/2006/table">
            <a:tbl>
              <a:tblPr/>
              <a:tblGrid>
                <a:gridCol w="8089920"/>
              </a:tblGrid>
              <a:tr h="6710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erfecto de indicativo de estos verb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16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frutar, comer, vivir) yo 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er, adelgazar, compartir) tú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enir, estar, correr) usted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er, resolver, poner) ella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r, romper, hacer) ellos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ntenerse, dormirse) nosotros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star, escribir, ver) yo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vir, correr, morir) él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478320" y="294480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ff"/>
                </a:solidFill>
                <a:latin typeface="Comic Sans MS"/>
              </a:rPr>
              <a:t>he disfrutado, he comido, he viv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D605-51B9-4C2E-8CE1-1CA80185FB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48:54Z</dcterms:modified>
  <cp:revision>65</cp:revision>
  <dc:subject/>
  <dc:title>PowerPoint Presentation</dc:title>
</cp:coreProperties>
</file>